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CA6-1A9D-4937-A138-7F6AE4C9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787-C94F-411A-B11F-47FB3328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F88-A6CD-4302-AF9A-CAA6EC23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BEC-CBB9-4010-9A2D-D55C3C79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8C8-8A81-4117-AF27-61F14CBE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A03-58E3-47F3-AA49-57B1E0DD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59A-3731-4A80-9C61-8B429762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46E-5268-4319-91CD-F6735392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316-45CC-4B5D-BEEA-1B27F404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663-C0B3-467C-B76E-774A25A3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B2E-7BFB-4301-8F84-B8B52DCC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D1E-42C4-4211-AD54-F894554E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89DA-CCE9-406C-80F1-F405EE905C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Иконопись в Древней Ру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790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..её сияющие краски, сильные и яркие, её ритмические силуэты, певучие и мягкие, её просветленные лики, ласковые и поэтичные, её эпическое настроение, спокойное и сосредоточенное, - все это вызывает ощущение какой-то внутренней легкости, когда все противоборствующие страсти приведены в согласие и когда возникает это особое чувство гармонии, которое рождается при звуках современной му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В. Н. Лазар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еоргий_ Новгород нач15в"/>
          <p:cNvPicPr/>
          <p:nvPr/>
        </p:nvPicPr>
        <p:blipFill>
          <a:blip r:embed="rId1"/>
          <a:stretch/>
        </p:blipFill>
        <p:spPr>
          <a:xfrm>
            <a:off x="395280" y="1484280"/>
            <a:ext cx="2487600" cy="35877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Что такое ико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кона (в переводе с греческого – «образ») – это изображения Иисуса Христа, Богоматери, святых, которые призваны напоминать о событиях Священного 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4Virgin Eleusa"/>
          <p:cNvPicPr/>
          <p:nvPr/>
        </p:nvPicPr>
        <p:blipFill>
          <a:blip r:embed="rId1"/>
          <a:stretch/>
        </p:blipFill>
        <p:spPr>
          <a:xfrm>
            <a:off x="468360" y="1268280"/>
            <a:ext cx="4200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Особенности живопи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3454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отличие от византийских , русский иконописец предпочитает мягкую светотеневую манеру, так называемую плавь, то есть плавно накладывал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она красок накладывались в несколько слоёв с учётом просвечивания более ярких  нижних через прозрачные и светлые верхние. Наиболее выступающие места покрывались светлой краской несколько раз, так что эти участки многослойного письма производят впечатление излучающих свет, светоно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Цветовая гамма ик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Цветовая гамма русских икон поражает своим разнообразием. Цвет также необходим образам-символам, как и геометрические фигуры, в которые они вписываются. Цветом озаряется линия, чтобы зазвучать ещё краше, обрести ещё большую музыка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Державная1"/>
          <p:cNvPicPr/>
          <p:nvPr/>
        </p:nvPicPr>
        <p:blipFill>
          <a:blip r:embed="rId1"/>
          <a:stretch/>
        </p:blipFill>
        <p:spPr>
          <a:xfrm>
            <a:off x="154080" y="1413000"/>
            <a:ext cx="4224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Спас Нерукотвор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419112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город 12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пас Нерукотворный» - один из самых известных и почитаемых образов Христа. Существует несколько легенд о его происхождении. Считается, что этот образ является самым достовер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Спас Нерукотворный Новгород"/>
          <p:cNvPicPr/>
          <p:nvPr/>
        </p:nvPicPr>
        <p:blipFill>
          <a:blip r:embed="rId1"/>
          <a:stretch/>
        </p:blipFill>
        <p:spPr>
          <a:xfrm>
            <a:off x="87480" y="2060640"/>
            <a:ext cx="428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Спас Вседержитель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14 ве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браз Христа, благословляющего верующих. В правой руке он держит Евангел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1164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Вседержитель 14в Византия"/>
          <p:cNvPicPr/>
          <p:nvPr/>
        </p:nvPicPr>
        <p:blipFill>
          <a:blip r:embed="rId1"/>
          <a:stretch/>
        </p:blipFill>
        <p:spPr>
          <a:xfrm>
            <a:off x="4627440" y="1484280"/>
            <a:ext cx="3753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Иконографический тип Елеуса (Умиление)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Богоматерь Владимирск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3" descr="Владимирская"/>
          <p:cNvPicPr/>
          <p:nvPr/>
        </p:nvPicPr>
        <p:blipFill>
          <a:blip r:embed="rId1"/>
          <a:stretch/>
        </p:blipFill>
        <p:spPr>
          <a:xfrm>
            <a:off x="368280" y="1484280"/>
            <a:ext cx="372888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Поясной образ, символизирующий материнскую любовь и единение с Христом. Голова Богоматери наклонена. Христос прижимается к её ще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Богоматерь Донск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3" descr="Донская икона Божией Матери"/>
          <p:cNvPicPr/>
          <p:nvPr/>
        </p:nvPicPr>
        <p:blipFill>
          <a:blip r:embed="rId1"/>
          <a:stretch/>
        </p:blipFill>
        <p:spPr>
          <a:xfrm>
            <a:off x="380880" y="1523880"/>
            <a:ext cx="349596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огоматерь Донска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торическая реликвия, овеянная славой. Её чтили как защитницу       От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Богоматерь Панагия (Всесвятая).На груди Богоматери Оранты  изображён в круге славы Христос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5" descr="10- Знамение"/>
          <p:cNvPicPr/>
          <p:nvPr/>
        </p:nvPicPr>
        <p:blipFill>
          <a:blip r:embed="rId1"/>
          <a:stretch/>
        </p:blipFill>
        <p:spPr>
          <a:xfrm>
            <a:off x="4199040" y="167652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еря начало от византийской живописи, русская иконопись сумела выработать самостоятельны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ля неё характерны и свой способ отражения жизни, и свои живописные приёмы, и свои секреты реме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8:22:31Z</dcterms:created>
  <dc:creator>Сергей</dc:creator>
  <dc:description/>
  <dc:language>en-US</dc:language>
  <cp:lastModifiedBy>Owner</cp:lastModifiedBy>
  <dcterms:modified xsi:type="dcterms:W3CDTF">2011-07-11T09:47:41Z</dcterms:modified>
  <cp:revision>13</cp:revision>
  <dc:subject/>
  <dc:title>Искусство иконописи в Древней Руси</dc:title>
</cp:coreProperties>
</file>